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40577"/>
        <c:axId val="76931830"/>
      </c:barChart>
      <c:catAx>
        <c:axId val="84340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31830"/>
        <c:crosses val="autoZero"/>
        <c:auto val="1"/>
        <c:lblAlgn val="ctr"/>
        <c:lblOffset val="100"/>
        <c:noMultiLvlLbl val="0"/>
      </c:catAx>
      <c:valAx>
        <c:axId val="76931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40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0E5-EF9F-4DCC-9B23-C4E34159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3DB-395D-4727-9DF5-E2C0A779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9FE-4CF0-4442-A949-EE3D7C94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7BE-2588-4706-BCD1-B919D895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D60-89C4-455C-899A-28E1105E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049-4711-4FAC-A19C-A3977CBD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190-ABD5-42BC-B24B-7FF772BD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C74-5ABF-43D4-9B95-6353A46B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533-B202-48DC-87A1-DE721ED0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96C-CF8B-48FB-948E-6D2A50A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2CD-4921-4CC9-A284-BDA2DBFC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4EE-3EA0-46E7-AAF7-3A0FD459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DF671-8BAF-4D74-AC8E-2B2015AE68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