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20936"/>
        <c:axId val="18191747"/>
      </c:barChart>
      <c:catAx>
        <c:axId val="49920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91747"/>
        <c:crosses val="autoZero"/>
        <c:auto val="1"/>
        <c:lblAlgn val="ctr"/>
        <c:lblOffset val="100"/>
        <c:noMultiLvlLbl val="0"/>
      </c:catAx>
      <c:valAx>
        <c:axId val="18191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20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9CB-1245-4C69-862E-3E16D2F8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BA9-F487-44BC-BE9D-E302F57D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3B0-296F-4B3F-8EAB-46F94C84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ED2-CE5E-419E-ABCA-694E63C0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2DD-0CC2-4227-B9E6-56CF5147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DA6-CACE-4549-B649-5EAD6519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A8E-AF42-4095-AE4E-46A67448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931-FF88-4F40-BADA-A39DB4F9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15B-3BFF-41B9-8ED2-9AAD3DF9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654-7B2C-4296-A62E-2514DDE8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32A-A1E7-43DE-AA60-2521AC75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5F6-78BD-4F33-A903-C9EC931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DDECB-98DB-4B98-B54C-BAEF071B21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