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14146"/>
        <c:axId val="98344665"/>
      </c:barChart>
      <c:catAx>
        <c:axId val="27914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44665"/>
        <c:crosses val="autoZero"/>
        <c:auto val="1"/>
        <c:lblAlgn val="ctr"/>
        <c:lblOffset val="100"/>
        <c:noMultiLvlLbl val="0"/>
      </c:catAx>
      <c:valAx>
        <c:axId val="98344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14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F7B-40E5-4CFF-A0AF-5A6F9F0D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1E7-305E-43BB-B3B5-F11127D0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B85-FE2F-44B3-8048-0A658375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94F-F36C-444A-A3B3-1752F4C4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F01-DE62-43E0-AEF5-3DD1176E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7E2-1C14-4D03-ADA0-B41675B1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8D50-ECB8-4016-86CA-AAC9FB56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3FF-328A-49D8-85BC-8AD3F194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DAE-9A4C-4CAB-A6A0-333DA2E2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4EC-0789-410B-A76C-1B7C26E5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03E-06FF-4EE8-8168-B5896A5C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A2D-F06C-478B-8E38-48DAD428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6EB66-9FB1-4048-A176-ECC097FF38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