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15865"/>
        <c:axId val="61330220"/>
      </c:barChart>
      <c:catAx>
        <c:axId val="94815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30220"/>
        <c:crosses val="autoZero"/>
        <c:auto val="1"/>
        <c:lblAlgn val="ctr"/>
        <c:lblOffset val="100"/>
        <c:noMultiLvlLbl val="0"/>
      </c:catAx>
      <c:valAx>
        <c:axId val="61330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15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7B5-06A1-4431-A6E1-B229A653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892-2AD5-4129-B741-A2BF27A9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A6F-2A5A-4749-9F61-9249A1A9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398-B1D4-42E6-A7AD-F17A4137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CBC-9BC7-4452-8681-E084BCAD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ED8-61F5-45C0-88BE-6E80EFCF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6D2-70C5-4220-A140-199D956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D3A-E8F4-42EE-A110-C039336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B54-610B-4B80-B4D9-23B76AA3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960-4670-4C3F-9C73-29E327C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2A9-7768-446D-AD7F-D206CC0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DD8-5234-4370-A293-55B75742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327A9-3C62-46C6-A0EE-2C61D962F1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