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51364"/>
        <c:axId val="35234526"/>
      </c:barChart>
      <c:catAx>
        <c:axId val="883513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34526"/>
        <c:crosses val="autoZero"/>
        <c:auto val="1"/>
        <c:lblAlgn val="ctr"/>
        <c:lblOffset val="100"/>
        <c:noMultiLvlLbl val="0"/>
      </c:catAx>
      <c:valAx>
        <c:axId val="352345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513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B28B-5AA2-469D-8A28-1CCACB8B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8926-BBED-4550-9821-50FAAB5D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269-41D9-4F9D-BD56-95E43154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456D-58CB-4DBA-A435-909AAC98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9A5B-8B33-4FD7-8211-DE1924E2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6BB8-9105-4C38-B768-4E8E196C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4D72-2C19-4735-AC0D-46B856BA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4787-0BAB-4138-A777-D4883BE4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009-0A88-4C36-9EAD-0936A499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9C13-AA60-4A2D-B928-24B7411A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C959-594C-41F7-BF3B-9EEC6A94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6B63-9DA8-429C-A177-4C00E7D0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C475E-6B6D-4472-9BE4-282A101CEE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