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57750"/>
        <c:axId val="79478711"/>
      </c:barChart>
      <c:catAx>
        <c:axId val="87257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78711"/>
        <c:crosses val="autoZero"/>
        <c:auto val="1"/>
        <c:lblAlgn val="ctr"/>
        <c:lblOffset val="100"/>
        <c:noMultiLvlLbl val="0"/>
      </c:catAx>
      <c:valAx>
        <c:axId val="79478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57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F51-0274-4719-9A64-39EBB8F0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1C1-E703-4248-BD08-35846E83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085-7AF1-4443-9AF5-F494C3BA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FF6-39C4-42DC-9893-F93FCBE1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F55-50FC-4AE6-B6DB-714D1484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6EE-A75E-4090-9D0D-11B06264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4B8-EAB9-46B9-AA09-EA85C4DE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89A-773D-4E1A-BFF8-73A998E9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427-B351-4780-B6A1-664E8843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C0E-2AF2-4C01-98D0-20F1E3E3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624-7709-4C4D-8D4E-77AF35D4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BAD-7AD2-4C8B-AA23-EA58FB2E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611CD-CA01-4514-827D-63C6FEFE87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