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15196"/>
        <c:axId val="75117773"/>
      </c:barChart>
      <c:catAx>
        <c:axId val="97915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17773"/>
        <c:crosses val="autoZero"/>
        <c:auto val="1"/>
        <c:lblAlgn val="ctr"/>
        <c:lblOffset val="100"/>
        <c:noMultiLvlLbl val="0"/>
      </c:catAx>
      <c:valAx>
        <c:axId val="75117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15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450-A18D-4176-9F71-F7BB19A9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02D-2D49-467C-B87F-746769EC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B6D-7976-4B44-AEF3-FEB3087A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BF8-E5AF-42E8-8EB1-BA960E69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8F5-993D-4DEA-B8AF-B1AB720C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F24-2876-40BB-8BE6-577FBECF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D36-E989-424A-97EA-3DB78C29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472-F84A-4F10-B509-21DA5820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7E3-3B7D-4F0E-8FBA-DEFEDDAB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F41-5D43-4ACD-9A35-FF8307A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996-1CA5-4F01-B132-89B49743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FC5-4720-4029-8367-42128631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B0F9B-0A1D-462D-8CFB-40A896414F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