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9863"/>
        <c:axId val="12589524"/>
      </c:barChart>
      <c:catAx>
        <c:axId val="1349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89524"/>
        <c:crosses val="autoZero"/>
        <c:auto val="1"/>
        <c:lblAlgn val="ctr"/>
        <c:lblOffset val="100"/>
        <c:noMultiLvlLbl val="0"/>
      </c:catAx>
      <c:valAx>
        <c:axId val="12589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9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845-4ED8-4017-9C4C-8B4299B2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CE9-795D-44E8-B7C4-3C25010C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7B1-71BE-4C67-80BA-AFF75D8B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77E-D0DB-466F-85D3-6289BEB3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043-942C-45AE-B1B5-F6CEA7C2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104-5DDC-4F15-B9CE-1ECBD340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B56-245E-44D6-81CA-5FB67F2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00B-8CF7-4B33-BC47-D157C329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008-E5FD-40ED-A993-7FA77491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0D1-6840-4F70-B284-0F34295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5EA-6E42-449C-A71D-F162ADEC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DC9-4C44-43F9-AF2F-91254F6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5F267-A25B-42B0-809B-C6F73A3726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