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165805"/>
        <c:axId val="43403954"/>
      </c:barChart>
      <c:catAx>
        <c:axId val="851658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403954"/>
        <c:crosses val="autoZero"/>
        <c:auto val="1"/>
        <c:lblAlgn val="ctr"/>
        <c:lblOffset val="100"/>
        <c:noMultiLvlLbl val="0"/>
      </c:catAx>
      <c:valAx>
        <c:axId val="434039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1658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D540-9104-453B-9E4F-A38E3AF24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25B8-6BD0-4460-A99B-C305EEFA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D6DC-15FE-4918-A53F-F19F559D1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DAA4-2930-45B8-BE0C-BC75D5A86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6792-6391-4877-BCCE-90AEE72E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8BB3-1722-43C5-8E77-71652BE4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F98B-1AA4-4B21-AB5E-EF714A4C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FD22-E831-4838-B0FA-778D888B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783B-8169-4900-9B76-D3FA1C62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759D-0394-4875-A098-87AFC1CC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9717-9744-4FA9-B958-68DD5090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B4F5-B0D8-4218-9EE5-80A0AB00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E98453-560B-4A31-B2ED-83F76348B7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